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BEC4-C72F-4854-B409-A7216264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2747-5036-46C5-A5E4-18CE0E24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C9E-2A37-421F-9F34-9ADB6E4C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533C-ED8E-4A1C-B95B-B15A8385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934C-5079-45F6-9C8B-57B56ED0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6CD-835D-4EF2-9240-1B88922D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669-81B6-45F6-8E36-972E1287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1B9F-0FA7-47B8-9AF7-6974C510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011-0EB6-42AB-A544-F13DDDEE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FFF-404E-4114-85B4-C089A60C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23A-A7A3-4AF2-BC3E-DE728526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C0B-C9E6-4416-896A-324E01AE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AEB3-537B-4AF0-B6D4-73AEC6333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685800" y="2895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4720" y="19555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GEOSS ADC </a:t>
            </a:r>
            <a:br>
              <a:rPr sz="3600"/>
            </a:b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Air Quality &amp; Health Scenario </a:t>
            </a:r>
            <a:br>
              <a:rPr sz="3600"/>
            </a:b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E.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Environmental Protection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.johne@ep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9880" y="1773360"/>
            <a:ext cx="196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bal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ll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CMW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63920" y="1843200"/>
            <a:ext cx="610848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83000" y="1971720"/>
            <a:ext cx="5968800" cy="43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17520" y="1897200"/>
            <a:ext cx="20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the public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&amp; Forecas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ime: Ai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2840" y="2135160"/>
            <a:ext cx="21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 – W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nteroperability Wanted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5720" y="3362040"/>
            <a:ext cx="247644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ystem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ipe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433840" y="1500120"/>
            <a:ext cx="2476800" cy="186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859040" y="1733400"/>
            <a:ext cx="2797200" cy="15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886360" y="3932280"/>
            <a:ext cx="29656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rchitecture Workshop</a:t>
            </a:r>
            <a:br>
              <a:rPr sz="28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Q Scenario Development Proces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2162160"/>
            <a:ext cx="86104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ario was developed iteratively by a collaborating multi-organiz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elecons and the ESIP wiki to prepare the submitted scen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itial Community of Practice, to co-evolve with the evolution of the Pi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98760" y="3376440"/>
            <a:ext cx="4746600" cy="326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pollution is a serious global public health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pollution is influenced by processes on local, regional, intercontinental, and global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tter understand, forecast, and manage air pollution, there is a need to bring together information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observational platforms (surface monitoring networks, satellites, sondes, ground-based remote sensors, aircraft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ological and chemical transport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s and emissions-generat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demographics, exposure-related behavior, and health impacts does not respect politica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:  Actor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6760" y="1752120"/>
            <a:ext cx="81914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 Observations Provid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; National Meteorological Agencies; National Space Agencies; National Land Management Agencies; Industry; Consultants; Academic and Other Research Institutes; and international cooperative fora (e.g. WMO, CEOS, EEA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Related Information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37"/>
              </a:spcBef>
              <a:spcAft>
                <a:spcPts val="4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Commerce/Transportation/Energy/Land Use/Health Authorities; Industry; Consultants; Academic and Other Research Institut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r Quality Modelers, Forecasters, and Analy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; National Meteorological Agencies; National Space Agencies; Industry; Consultants; Academic and Other Research Institutes; and international scientific cooperative fora or projects (e.g., IGAC, GEMS, ECMWF, EMEP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Management Speci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37"/>
              </a:spcBef>
              <a:spcAft>
                <a:spcPts val="4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; National Meteorological Agencies; National Space Agencies; National Land Management Agencies; Industry; Consultants; Academic and Other Research Institut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r Quality Management Decision-Ma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 and Multi-lateral Cooperative Fora (such as LRTAP Convention, EANET, Male Declaration, CAI-Asia, Arctic Council, ...);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Consumers of Air Quality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eral public; National, State/Provincial, and Local Health and Emergency Response Authorities; Academic and Independent Research Institutes (including health and environmental impacts research); Mass Media (including television, newspapers, radio, internet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: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Starting Information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6760" y="1752120"/>
            <a:ext cx="81914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eorological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s from ground-based networks, satellites, so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s from numerical models at the global and regiona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graphical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s-relat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ospheric Composition (Air Quality)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Monitoring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Observ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-based remote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craft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al Air Quality Chemical Transport Mod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t regional to global sc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:  Focus Area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62040" y="1912680"/>
            <a:ext cx="8237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 Large-Scale Event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NET, IDEA, SmogB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 of International and Intercontinental Transport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AP Data Network, AMET, RSIG, Hemi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milation of Observations for Air Quality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MS, RAQ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sion of Relevant Information to the Health Community &amp;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Now,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76600" y="1743120"/>
            <a:ext cx="5946840" cy="4371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8120" y="1800000"/>
            <a:ext cx="1914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8120" y="1800000"/>
            <a:ext cx="1914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622600" y="1581120"/>
            <a:ext cx="54705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2840" y="2135160"/>
            <a:ext cx="21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 – W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rry J. Keating</cp:lastModifiedBy>
  <dcterms:modified xsi:type="dcterms:W3CDTF">2008-02-03T04:28:51Z</dcterms:modified>
  <cp:revision>223</cp:revision>
  <dc:subject/>
  <dc:title>Update on OGC involvement in GEOSS</dc:title>
</cp:coreProperties>
</file>